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342C-80F6-4727-891F-7BF6E059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7242-004D-4F8A-8D8A-CAD550EF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E2A-F04D-4337-9C3A-3C9F696C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9B9-5541-4B02-A87F-E4270639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F640-1DBB-451D-81D6-39C53F56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C47B-0CC9-4A91-85BC-DA793E8A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0EFC-DC49-443A-B0AC-27C373D8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823F-7C9F-488B-8A04-48F142BD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C932-BDA3-4E40-B619-7893A25B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5C35-2E6B-492B-812F-7270A13D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D91E-2A38-45D8-BABA-B411059B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ADC0-6468-40D7-A0B7-8F5B2DB3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238E-AC93-4FB0-B6D5-27BC6966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2662-E751-46B9-8B88-8C22FA78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2E77-E4E7-4191-BDF5-BA82137A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587F-3F07-4A6D-8F84-10799E5D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C544-22E8-4DC5-B35A-1C211905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35BE4-6CAA-4660-92FA-7BC7D199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EA283-5614-4AA7-B298-58D93AA2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67B99-9BF8-4EED-8DE1-6CF2ED15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C2C04-9EF3-4FAD-88EF-9F14913A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5A8587-7299-4705-B75F-A0D45547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202-07C8-4053-90D6-C558EF97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2B245-9CAE-41F1-899D-ADB577A5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5BF73-433B-4ADF-BC17-C2A19AA7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635DFA-8970-401F-BBDC-B5CE3CC6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D7DCE-0173-4BCA-93F7-33561C8D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656051-7C7A-4295-A160-B86D2C96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8E923-EAE8-44D9-BD27-9118162B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202D8-5527-4C7C-88DF-98517425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2E17F-FFFE-43F4-8420-12936B82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3BF65-8C46-4875-9122-F2F5CF9F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D7801-6E98-4FFB-B480-2D66C4C0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81FD-6787-4C36-BCB1-1DD99961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C6625-06B3-47D3-A2C9-6CD6C79E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6030A-7BE9-4D4E-9BB7-01BD0381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6A8AE-DBFD-4A84-A3F1-136AC026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A43B0-BA70-43C4-885E-D925D9C1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4BE67-488D-41E6-87C7-1C306518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0D5B3-B262-43B9-A629-F73AD118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60049-A54F-498D-B9D2-DA69FBCA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5FDF5-27BE-4096-BCD8-78CF93EC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6A3BD-E377-485C-8F36-4E127975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48BBBB-E2C2-4768-91A7-70635ECE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5388-6ACE-43D6-AD5D-D687E60D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A0823B-7B68-40E4-BF59-E872FAFA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B7BAED-D978-45A6-A6D3-9C85811D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3775A-AD7B-4747-823E-FA477009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C395F4-4F06-4D5B-8F4E-193D1F08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CCC6B6-A3F5-421B-BF1C-590BFF3F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FB1D8C-02F8-4EB9-937A-E07E1777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919E43-EB25-4EEA-928B-748D1C87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5AED60-92D8-4065-A0E6-A5AC27A0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2A06E4-1512-468D-8A4F-34B55668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A97DA5-0BCD-46E6-9C0F-48043603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8939-B36E-4BA4-8F91-08484E3E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4E6328-A22B-4489-A21E-9693339B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1C8DBE-874B-4A4F-9F41-6846C255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8B4CD-D2D5-4EFC-AE6C-31BCB250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1C703-ECCD-44B7-990B-4DB15F7E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CE679B-A018-49B3-8520-E74692F4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CC34A4-F8A5-4397-8E06-D2368C59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EC2537-E3C0-4482-896E-090D7DD7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3CEA66-48C9-4E45-812C-AC7A8085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546B8D-DA00-4E45-9FDA-3C82240B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49FE3A-1757-47E0-8BCB-5CA13C8B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F2E-13F8-4CB2-9C1F-2EC7F704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5D939-75E1-4D17-9D8D-427A8E14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DFEF07-6CE5-4247-AA7F-44DC8086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157C58-CFBB-4031-B5FA-0EED2708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63C1E2-AB75-4EDC-B25C-ADF8F10C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B94555-80B1-4DB7-99EB-93E2CADC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423FDB-8828-49CA-BAAB-AA41A16B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D44587-2BE9-47AF-80B3-C10D7BEB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D2788B-9395-43CD-874E-2753E076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5077D9-90CB-48CE-8E11-9AD5EE88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B8657-75FE-4F63-8663-40664D57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E89-3320-4B22-A63F-BC5B3294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AC54BE-9DEC-4B59-B516-E1FB7BD5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5DB206-CB70-4991-8517-676F0464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D5ADD9-70FC-4ABB-912E-E0D79BCE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FF736E-6AB4-42C1-9DC3-3C1C6CCA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A22819-821A-465F-B05A-14C77937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B34D-66F6-4530-ABE8-3C810179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AC93-03A7-4FA8-9C6B-27493A4FE82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8069-C449-4EC2-A683-44F24282B66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8667-CF47-4D98-AFBA-9B0C0815DEE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553F-B142-4C7C-89DC-B175A8C88D6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9417-FF73-4824-BC8F-444319504B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53A5-8B99-4BD6-87B5-89CB189BFDE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A44B-75C7-43F9-8518-093AF147911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ОДНОКРИСТАЛЬНЫЕ МИКРОЭВМ ТИПА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23640" y="1989000"/>
            <a:ext cx="74674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 это серия с ядром 80С51В. В странах СНГ МК51 выпускаются на базе  n-МОП технологии (серия 1816) и КМОП технологии (серия 18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9"/>
          <p:cNvPicPr/>
          <p:nvPr/>
        </p:nvPicPr>
        <p:blipFill>
          <a:blip r:embed="rId1"/>
          <a:stretch/>
        </p:blipFill>
        <p:spPr>
          <a:xfrm>
            <a:off x="1571760" y="2786040"/>
            <a:ext cx="5549760" cy="328608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3005640" y="614376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9.10. Структура МК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Заголовок 3"/>
          <p:cNvSpPr/>
          <p:nvPr/>
        </p:nvSpPr>
        <p:spPr>
          <a:xfrm>
            <a:off x="457200" y="274680"/>
            <a:ext cx="7467480" cy="922320"/>
          </a:xfrm>
          <a:prstGeom prst="rect">
            <a:avLst/>
          </a:prstGeom>
          <a:solidFill>
            <a:srgbClr val="85dfd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КРОПРОЦЕССОРЫ И МИКРОКОНТРОЛЛЕРЫ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6" descr="D:\vvsu.gif"/>
          <p:cNvPicPr/>
          <p:nvPr/>
        </p:nvPicPr>
        <p:blipFill>
          <a:blip r:embed="rId2"/>
          <a:stretch/>
        </p:blipFill>
        <p:spPr>
          <a:xfrm>
            <a:off x="0" y="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ВНЕШНИЕ УСТРОЙСТВА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000" y="1413000"/>
            <a:ext cx="74674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"внешним" устройствам МК51 отнес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параллельных двунаправленных порта ввода/вывода P0..P3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 SBUF и регистр управления SCON последовательного  канал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ймеры/счетчики T0,  T1,  их регистр управления TCON и регистр режимов TMO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ы управления подсистемой прерываний: регистр приоритетов IP и регистр маски I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 управления машиной PC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 МК51 входит дуплексный последовательный канал связи с буферизацией,  который может быть запрограммирован для работы в одном из четырех режим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0" - синхронный ввод/вывод с частотой OSC/1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1" - асинхронный с 8-бит. кадром, частота k*f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2" - асинхронный с 9-бит. кадром, частота k*OSC/3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3" - асинхронный с 9-бит. кадром, частота k*f; где k {1, 1/2}, f - частота переполнения T1 (FOV), деленная на 1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ПОДСИСТЕМА ПРЕРЫВАНИЙ МК51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000" y="134100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хитектура МК51 поддерживает двухуровневую радиальную приоритетную подсистему прерываний (ПП) с шестью  источниками  запросов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риема внешних прерываний служат входы INT0\,  INT1\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чниками внутренних запросов могут служить сигналы переполнения таймеров T0,  T1 и сигнал окончания работы последовательного ка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СИСТЕМА КОМАНД МК51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8000" y="134100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команд включает 111 команд - однобайтовых (49), двухбайтовых  (45)  и трехбайтовых (17).  Все команды выполняются за 1 или 2 МЦ (16 тактов CLK в каждом), за исключением команд умножения и деления MUL и DIV,  для выполнения которых требуется 4 МЦ. Большинство двухбайтовых команд - одноцикловые,  а все трехбайтовые -двухцикловые. За  один  МЦ  в МК51 можно вводить до двух байтов программного к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 работает с данными четырех основных типов - битами,  полубайтами (4 бита),  байтами и адресами (16 бит).  Наиболее  часто используемой единицей данных является байт: внутренние магистрали данных имеют 8-битный размер.  Программная память, внутренняя память и внешняя память данных запоминают и возвращают данные в виде байтов. Кроме этого, имеется много команд, которые работают с одиночными битами.  Бит может быть установлен, очищен, проинвертирован,  логически скомбинирован с флагом переноса и проверен для выполнения последующих переходов.  Полубайт (двоично-десятичная упакованная цифра) обычно мало применяется в МК51,  но  двоично-десятичная арифметика может выполняться без преобразования операндов в двоичное представ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ы, которые  используют  16-битные адреса,  имеют дело с указателем данных (16-битный регистр DPTR ) и с программным  счетчиком (переходы и вызовы подпрограммы).  Использование команд сложения с битом переноса (ADDC) и вычитание с заемом  (SUBB)  делает программирование 16-битной арифметики относительно просты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но-доступными объектами в составе ОМЭВМ являются: аппаратные регистры, четыре банка по восемь регистров R0..R7,R0..R7 и 128 ячеек внутренней памяти данных - с адресами 00H..7FH.  Кроме того,  по  специальным  командам  MOVX  и MOVC может быть доступна внешняя память данных и программ. В МК51 возможна битовая адресация аппаратных регистров и части внутренней памят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рограммировании следует иметь в виду, что в качестве регистров R0..R7 банка 0 используются ячейки внутренней памяти  данных с адресами 00H..07H,  банка 1 - 08Н..0FН, банка 2 - 10Н..17Н, банка 3 - 18Н..1F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истеме команд МК51 используются  регистровая, прямая, косвенная и непосредственная адрес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егистровой  адресации  операнды  находятся  в регистрах, имена которых определяются кодом операции команды.  Эта  адресация используется  для  обращения  к регистрам выбранного банка рабочих регистров,  к регистрам А,  В,  DPTR и к флагу переноса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прямому  адресу  можно обращаться к аппаратным регистрам и внутренней памяти.  Используется также прямая  битовая  адресаци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свенно можно  адресоваться  к  ячейкам внутренней и внешней памяти данных через регистры R0,R1 текущего ба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любой ячейке внешней памяти (данных и программ) можно обратиться с использованием регистра DPT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типу операций можно выделить следующие классы команд:  пересылки;  арифметические и логические; передачи управления; специальные коман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75294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МИКРОКОНТРОЛЛЕР PIC ФИРМЫ PARALL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9640" y="836280"/>
            <a:ext cx="74678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особо малый микроконтроллер. Простейший микроконтроллер имеет 8 выводов. Микроконтроллер 8-ми разрядный с Гарвардской архитектурой, что повышает производительность. Одновременно считывается команда и происходит обращение за данными. В некоторых микроконтроллерах есть операции умножения, деления, операции с плавающей точкой. Система команд компактная – не более 51 команды (LOW, LITLE и HIGH – 51 команда). Есть банки регистров как МК5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ПЗУ разных типов и перифирийные устройства (АЦП, ЦАП). В составе перифирийных устройств имеется несколько выводов последовательного интерфейса – обычный RS232, интерфейс I2C фирмы Philips, SPI.  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леры PIC могут быть использованы как ?умные? перифирийные устройства, т.е. SLAVE – контроллер может быть подсоединен к управляющему контроллеру PIC как обычное перифирийное устройство через порт (или линю данных). Очень развиты перифирийные средства коммуникации (I2C, SPI, RS232, порт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снове PIC может быть организованна сеть микроконтроллеров (через шину I2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SPI и I2C общая особенность: для передачи используется два пров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фейс SPI работает со стробиованием по фронту сигнала (клока), т.е. по одной линии передаются данные, по другой – клок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I2C стробирование осуществляется по уровню. В обоих интерфейсах Master обеспечивает выдачу сигналов такт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К51 используются следующие сигн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E  - строб адре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EN\  - строб чтения внешней памяти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D\,WR\- стробы чтения и записи внешней памяти да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A\  - разрешение обращения во внутреннюю память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0,T1 - входы счетчиков внешних событ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INT0,INT1- запросы внешних радиальных преры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xD - вход данных последовательного кан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xD - выход данных последовательного кан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 МК51 входят параллельные 8-разрядные квазидвунаправленные порты P0..P3. Порт Р3 может быть использован для ввода и вывода управляющих сиг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  образом,  в циклах обращения к внешним ресурсам на линиях порта P3 работают управляющие сигналы, а при отсутствии необходимости  управления внешними  ресурсами эти же линии могут быть использованы как линии по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АРХИТЕКТУРНЫЕ ОСОБЕННОСТИ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000" y="1413000"/>
            <a:ext cx="74674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  позволяет управлять пятью (частично пересекающимися) адресными пространствами памяти,  четыре из которых являются областями дан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SEG   - пространство регистров (4*8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SEG   - пространство внутренней памяти данных (256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SEG   - битовое пространство данных (256 би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XSEG   - пространство внешней памяти данных (до 64К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SEG   - пространство программного кода (до 64К бай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а RSEG и BSEG частично пересекаются, физически совмещаются с DSEG и образуют единую внутреннюю среду для  хранения  данных.  Это позволяет одни и те же данные рассматривать с разных позиций (ячейка памяти,  регистр,  битовое поле, порт ввода/вывода и т.п.)  и организовывать наиболее удобный для данного случая доступ к 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но, что  все порты ввода/вывода,  системные регистры, таймеры так же отображены на пространство DS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о регистров  представлено четырьмя банками регистров по 8 в каждом,  а так же 16-разрядными программным счетчиком PC и регистром косвенного адреса DPTR,  8-разрядными аккумуляторами A и B, указателем стека SP и регистром PS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регистры, кроме PC, отображаются на DS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7] - CY - перенос из старшего (7) разряда АЛБ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6] - AC - перенос из третьего разряда АЛБ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5] - F0 - флаг пользова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ме того, формат PSW включает двухбитовое поле PSW[4:3] - RS номера  банка  регистров  и  флаги  арифметического  переполнения OV (PSW[2]) и четности P (PSW[0]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лаги CY,  AC  и  OV  отражают  признаки результата последней арифметической операции,  а P - четность содержимого  аккумулятора A. Расширение  аккумулятора B используется в командах умножения и деления, а в остальных операциях - как обычная ячейка памяти. Программный счетчик  адресует  пространство  памяти  программ CSEG объемом до 64K байт, причем переход из области внутренней памяти программ к внешней осуществляется автоматичес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ель данных DPTR используется для обращения к XSEG и при пересылке  констант из CSEG в A.  Кроме того,  содержимое DPTR используется а  качестве  смещения  в  команде  перех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ель стека SP образует системный стек  глубиной  до  256 байт. SP хранит адрес последнего занесенного байта и растет при записи в сторону больших адре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ы R0,  R1 каждого банка используются в качестве указателей данных. При сбросе машины в A,  B,  PC и DPTR загружаюся 0h, а в SP - 07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ОРГАНИЗАЦИЯ ВНУТРЕННЕЙ ПАМЯТИ ДАННЫХ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640" y="1412640"/>
            <a:ext cx="7467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о DSEG включает  в себя 256 ячеек памяти,  часть из которых является одновременно элементами других пространств.  Так,  первые  32 байта ОЗУ занимают 4 банка.  Служебные регистры,  порты ввода/вывода, таймеры, аккумуляторы и др. так же совмещены с ячейками памяти и полями битового сегмента.  Это дает возможность обращения к одному физическому объекту  разными  способами.  Так,  к  ячейке DSEG[E0]  можно  обратиться по прямому и косвенному адресу,  обратиться как к аккумулятору A и как к полю BSEG[E0..E7]  (к  каждому биту в отдельност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9"/>
          <p:cNvPicPr/>
          <p:nvPr/>
        </p:nvPicPr>
        <p:blipFill>
          <a:blip r:embed="rId1"/>
          <a:stretch/>
        </p:blipFill>
        <p:spPr>
          <a:xfrm>
            <a:off x="684360" y="3860640"/>
            <a:ext cx="4330440" cy="23893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517680" y="635796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9.11. Пространство внутренней памяти данных DS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 программ адресуется PC[15:0] и может составлять до 64К байт,  причем младшие 4 К могут располагаться  непосредственно на кристалле, а остальная память внешнее ЗУ. С точки зрения программиста внешняя и внутренняя  память  программ представляют единое адресное простра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ются «особые точки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E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SET   0000h - стартовый адре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XTI0   0003h - внешнее прерывание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IMER0  000Bh - прерывание от таймера/счетчика T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XTI1   0013h - внешнее прерывание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IMER1  001Bh - прерывание от таймера/счетчика T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SINT      0023h - прерывание последовательного пор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МАШИННЫЕ ЦИКЛЫ И СИНХРОНИЗАЦИЯ МИКРОЭВМ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000" y="148392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ние МК51 осуществляется от одного источника +5В. Кварцевый резонатор 3,5..12 МГц подключается к выводам Х1, Х2; возможно подключение внешнего тактового генератора через Х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OSC/2 - основная внутренняя тактовая частота CLK.  Первая половина периода CLK фаза P1,  вторая - P2.  Каждый машинный  цикл состоит из шести периодов CLK: состояний S1, S2, .. S6 или двенадцати периодов OSC,  называемых фазами S1P1,  S1P2,  S2P1,  .. S6P, S6P2.  Каждый машинный цикл сопровождается генерацией двух стробов ALE длительностью в один период  CLK  -  S1P2..S2P1,  S4P2..  S5P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ный цикл (КЦ) содержит один или несколько машинных циклов  (МЦ)  и отсчитывается от S1P1.  По фазе S1P2 в IR фиксируется код операции, второй байт двухбайтовой команды читается в S4P2 того же МЦ,  третий байт трехбайтовой - в S1P2 следующего МЦ.  Таким образом,  для ввода каждого байта команды требуется один полуцик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  время  всех оставшихся полуциклов в фазах S1P2 и S4P2 читается код операции следующей размещенной в памяти команды,  однако он не помещается в IR и не инкрементируется PC. Текущий КЦ всегда завершается в S6P2. Вслед за этим начинается S1, в котором в IR вводится новый бай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щение к внешней памяти данных XSEG по команде MOVX требует  второго МЦ,  в котором не вырабатывается первый строб ALE.  На рис. 3.7 приведена временная диаграмма обращения к XSEG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риведение МК51 в исходное состояние необходимо  подать на  вход  RST  импульс H-уровня длительностью не менее 24 периодов OSC (два МЦ) при условии что генератор запущен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31:08Z</dcterms:created>
  <dc:creator>Evgeniy</dc:creator>
  <dc:description/>
  <dc:language>en-US</dc:language>
  <cp:lastModifiedBy>Сивченко</cp:lastModifiedBy>
  <dcterms:modified xsi:type="dcterms:W3CDTF">2009-06-16T23:10:49Z</dcterms:modified>
  <cp:revision>55</cp:revision>
  <dc:subject/>
  <dc:title>Микропроцессоры и микроконтроллеры </dc:title>
</cp:coreProperties>
</file>